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644-F0DD-4099-A52A-E1C48AFE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A92-2D0E-4B5A-AF85-8CFD14FD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B95-3545-40A5-B373-ACF58CC3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E88-E818-40ED-9B44-65298A82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C04-C6DB-48C4-A7B2-22E3B89D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2A8-E7D9-4842-A5B6-C931D49E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498-7672-4BA0-919A-F61A328B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420-039D-47B6-B4E1-ED12FC50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D632-16B4-4824-8B18-F96AFE29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632-58BB-4E87-9D97-41A8D2B8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353-D352-4733-8788-77241168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793-557C-46A2-BEA7-AD5FD20B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0B22-02B9-4BF6-A4C2-2F6ADD95E2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828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楷体"/>
                <a:ea typeface="华文楷体"/>
              </a:rPr>
              <a:t>第三节  金融期货（远期）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4920" y="1071720"/>
            <a:ext cx="8534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远期价格与期货价格的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一）基本假设与符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基本假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没有交易费用和税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市场参与者可以用相同的无风险利率借入与贷出资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远期合约无信用风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允许现货卖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出现套利机会，投资者将参与套利活动，使套利机会消失。我们计算的理论价格是在无套利机会下的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均衡价格（理论价格）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期货合约保证金帐户支付同样的无风险利率。这意味着投资者可以无成本地取得</a:t>
            </a:r>
            <a:r>
              <a:rPr b="0" lang="zh-CN" sz="2400" spc="-1" strike="noStrike">
                <a:solidFill>
                  <a:srgbClr val="000099"/>
                </a:solidFill>
                <a:latin typeface="华文楷体"/>
                <a:ea typeface="华文楷体"/>
              </a:rPr>
              <a:t>远期与期货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多头或空头地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296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）支付已知现金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560" y="1357200"/>
            <a:ext cx="84582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一般方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现金收益的现值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黄金、白银的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值为负）， 构建如下两个组合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份远期合约多头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一笔数额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现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单位标的资产， 利率为无风险利率，期限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本金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负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，两种组合都等于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标的资产，这两种组合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的价值相等，即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+ K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=S-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(S-I)-K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                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）支付已知现金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8760" y="142848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市场均衡条件下（无套利机会）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 = F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则①式为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= S-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K=(S-I)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 = F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(S-I)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           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480" y="228240"/>
            <a:ext cx="84294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）支付已知现金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56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等式②不成立时，市场将出现套利机会，是不均衡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&gt;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-I)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按无风险利率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借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金，期限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用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购买一单位的标的资产，同时卖出一份该资产的远期合约，交割价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,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，在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还本付息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本利收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I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标的资产交割的收入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可实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[F–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-I)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&lt;(S-I)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卖空标的资产，将所得收入以无风险利率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进行投资，期限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同时买进一份该资产的远期合约，交割价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,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，在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套利者可得到本息收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付现金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换得一单位标的资产，归还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I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金收益给原所有者，实现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-I)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–F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：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5480" y="1000080"/>
            <a:ext cx="862956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设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与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的无风险年利率分别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而一种十年期债券现货价格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9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，该债券一年期远期合约的交割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0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，该债券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与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后都将收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的利息，且第二次付息日在远期合约交割日之前，求远期合约多头的价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设黄金的现货价格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0$/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盎司，其存储成本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$/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盎司，年底支付，无风险年利率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求一年期黄金的期货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043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五）支付已知收益率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560" y="1357200"/>
            <a:ext cx="8458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一般方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构建如下两个组合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份远期合约多头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一笔数额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现金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q(T-t)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证券，并且所有收益再投资于该证券。其中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现货资产按连续复利计算的已知收益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，两种组合都等于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标的资产，这两种组合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的价值相等，即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即：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+K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= S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q(T-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S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q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–K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五）支付已知收益率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4200" y="1285560"/>
            <a:ext cx="862488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市场均衡条件下（无套利机会）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 = F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则上式为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= S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q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F = 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(r -q)(T-t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等式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成立时，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市场将出现套利机会，是不均衡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&gt; Se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 -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q ) (T-t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实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F–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(r-q)(T-t)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&lt;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(r –q)(T-t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实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(r-q)(T-t)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套利使期货市场价格与理论价格一致，市场恢复均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：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520" y="1143000"/>
            <a:ext cx="8534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&amp;P50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数现在的点数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该指数所含股票的红利收益率预计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无风险年利率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期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&amp;P50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数期货的市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，求该期货合约多头的价值和期货的理论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8487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六）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外汇远期与期货的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560" y="1219320"/>
            <a:ext cx="845820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外汇远期与期货的定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以本币表示的一单位外汇的即期价格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远期合约中约定的以本币表示的一单位外汇的交割价格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汇收益率为发行国连续复利的无风险利率，用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份远期外汇合约多头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一笔数额为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现金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e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(T-t)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份外汇，并且所有收益再投资于该外汇。其中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现货资产按连续复利计算的已知收益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令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=0,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得：利率平价公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其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远期利率协议的定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远期外汇综合协议的定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2484360" y="4292640"/>
                <a:ext cx="35053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2700360" y="5157720"/>
                <a:ext cx="2438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价格与现货价格的关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3840" y="1071360"/>
            <a:ext cx="864396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价格与即期现货价格的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前面的定价公式，当标的物无收益，或已知现金收益较小，或已知收益率较小时，期货价格大于即期现货价格；反之，期货价格小于即期现货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(S-I)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(r -q)(T-t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价格收敛于标的物现货价格；这是由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套利行为决定的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价格与现货价格的关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金融期货价格与预期未来现货价格的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E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金融期货价格与未来实际现货价格的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期货价格与未来实际现货价格的关系，就象期望值与实际值的关系一样，完全相等的概率极小，往往略大于或小于期货合约到期时的实际现货价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有关符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520" y="999720"/>
            <a:ext cx="845820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: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远期与期货合约的到期时间，单位为：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: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在时间，单位为：年。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远期与期货合约中以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为单位表示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剩余时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标的资产在时间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价格；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标的资产在时间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的价格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: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远期合约中的交割价格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: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远期合约多头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的价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: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标的资产的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远期理论价格或期货理论价格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分别称为远期价格或期货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: T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到期的以连续复利计算的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的无风险利率（年利率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华文楷体"/>
                <a:ea typeface="华文楷体"/>
              </a:rPr>
              <a:t>（二）远期价格与期货价格的关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520" y="121932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oss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证明，当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恒定，到期日不变时，交割日相同的远期价格与期货价格应相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当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法预测时，远期价格与期货价格不等。它们之间的关系取决于标的资产与利率的相关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当标的资产与利率呈正相关时，期货价格高于远期价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当标的资产与利率呈负相关时，期货价格小于远期价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合约有效期的长短也决定了远期价格与期货价格的差异程度。但有效期只有数月时，两者差异较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税收、交易费用、保证金的处理方式、违约风险、流动性等都会影响远期价格与期货价格的差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多数情况下，我们认为远期价格与期货价格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476280"/>
            <a:ext cx="8643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金融期货（远期）的定价原理与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一）无套利定价原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套利定价原理：在均衡的金融市场上，不存在套利机会。这意味着：两个具有相同盈亏的证券组合，应具有相同的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套利定价方法就是应用无套利原理对资产进行定价的方法。这种方法的基本做法是：构建两个投资组合，若其终值相等，则现值一定相等。根据这种相等关系，构造包含相应衍生品的方程式，求衍生品的理论价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648036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）标的资产的分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1197000"/>
            <a:ext cx="8462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无收益资产：指期货合约到期前，标的资产不产生现金流的资产，如贴现债券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支付已知现金收益的资产：指期货合约到期前，标的资产产生完全可预测的现金流的资产，如附息债券和支付已知现金红利的股票、黄金、白银等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支付已知收益率的资产：指期货合约到期前，标的资产产生与该资产现货价格成一定比率的资产，如外汇、股价指数、远期利率协议、远期外汇综合协议等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480" y="228600"/>
            <a:ext cx="864396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）无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构建如下两个组合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份远期合约多头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一笔数额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现金（</a:t>
            </a:r>
            <a:r>
              <a:rPr b="0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K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可以购买一单位标的资产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一单位标的资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，两种组合都等于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标的资产，这两种组合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的价值相等，即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+ K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=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S- K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                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480" y="30492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）无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52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市场均衡条件下（无套利机会）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 = F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则①式为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Ke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-r(T-t)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= 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K= S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k = F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= S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           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8715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）无收益资产远期（期货）合约的定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56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等式②不成立时，市场将出现套利机会，是不均衡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&gt; 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按无风险利率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借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金，期限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购买一单位的标的资产，同时卖出一份该资产的远期合约，交割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,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，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可实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F–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 &lt; 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者可卖空标的资产，将所得收入以无风险利率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进行投资，期限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-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同时买进一份该资产的远期合约，交割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,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，在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刻套利者可实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[S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r(T-t)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–F]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无风险利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利使期货市场价格与理论价格一致，市场恢复均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：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一标的证券为一年期贴现债券、剩余期限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的远期合约多头，其交割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$960, 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月的无风险利率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该债券的现价为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$94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求远期合约多头的价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1600200" y="3860640"/>
                <a:ext cx="594360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3:40:33Z</dcterms:created>
  <dc:creator>fang</dc:creator>
  <dc:description/>
  <dc:language>en-US</dc:language>
  <cp:lastModifiedBy>Yitan Wang</cp:lastModifiedBy>
  <dcterms:modified xsi:type="dcterms:W3CDTF">2024-03-18T02:57:58Z</dcterms:modified>
  <cp:revision>347</cp:revision>
  <dc:subject/>
  <dc:title>没有幻灯片标题</dc:title>
</cp:coreProperties>
</file>